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559675" cy="104394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85920" y="1240920"/>
            <a:ext cx="2425680" cy="335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97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308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7E507-FC09-4D6D-A0E0-AB6B3D209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2185920" y="1241280"/>
            <a:ext cx="2425680" cy="335124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9320" y="4779720"/>
            <a:ext cx="543888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49840" y="943308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E0827-FECB-46BF-A1A4-0183E1CFB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2DC-EE05-40B2-B553-4A78FA07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6521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760" y="6239160"/>
            <a:ext cx="6521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EB9-52F7-4504-92CB-4EBDAAA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0640" y="27795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760" y="62391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0640" y="62391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151-945B-4614-9D6E-C19CD7DA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20995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3760" y="2779560"/>
            <a:ext cx="20995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28400" y="2779560"/>
            <a:ext cx="20995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760" y="6239160"/>
            <a:ext cx="20995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3760" y="6239160"/>
            <a:ext cx="20995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28400" y="6239160"/>
            <a:ext cx="209952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2B3-4D08-451C-A6D4-2E0E5F71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760" y="2779560"/>
            <a:ext cx="6521400" cy="66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DF6-4EF2-4EF9-B5C0-253867BA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652140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627-3F62-4890-9858-87F4138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318240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0640" y="2779560"/>
            <a:ext cx="318240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47A-4580-4A2B-B448-C4088610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6C6-A163-42AC-A73A-AE1294AC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8760" y="555120"/>
            <a:ext cx="6521400" cy="93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F76-0200-4DE6-96B5-7DC2308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0640" y="2779560"/>
            <a:ext cx="318240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760" y="62391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DD9-A1C4-4464-AC0A-6D3EA19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318240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0640" y="27795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0640" y="62391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415-8056-45BA-8B6A-CAA7EB2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760" y="27795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0640" y="2779560"/>
            <a:ext cx="318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760" y="6239160"/>
            <a:ext cx="6521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4FB-33D9-43F0-A6B3-1E0FD07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8760" y="555120"/>
            <a:ext cx="6521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760" y="2779560"/>
            <a:ext cx="6521400" cy="66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9675720"/>
            <a:ext cx="17017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3080" y="9675720"/>
            <a:ext cx="25527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38440" y="9675720"/>
            <a:ext cx="17017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85EDC-C69D-4EF1-AA4B-CCDCD259EB1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-125280"/>
            <a:ext cx="7559640" cy="10690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44600" y="5397480"/>
            <a:ext cx="66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ecf22"/>
                </a:solidFill>
                <a:latin typeface="Arial"/>
                <a:ea typeface="Arial"/>
              </a:rPr>
              <a:t>доступен на сайте </a:t>
            </a:r>
            <a:r>
              <a:rPr b="1" lang="en-US" sz="2000" spc="-1" strike="noStrike">
                <a:solidFill>
                  <a:srgbClr val="fecf22"/>
                </a:solidFill>
                <a:latin typeface="Arial"/>
                <a:ea typeface="Arial"/>
              </a:rPr>
              <a:t>www.sogaz.med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fecf22"/>
                </a:solidFill>
                <a:latin typeface="Arial"/>
                <a:ea typeface="Arial"/>
              </a:rPr>
              <a:t>скачивание графика режима работы страхового представителя доступно по </a:t>
            </a:r>
            <a:r>
              <a:rPr b="1" lang="en-US" sz="1000" spc="-1" strike="noStrike">
                <a:solidFill>
                  <a:srgbClr val="fecf22"/>
                </a:solidFill>
                <a:latin typeface="Arial"/>
                <a:ea typeface="Arial"/>
              </a:rPr>
              <a:t>QR – </a:t>
            </a:r>
            <a:r>
              <a:rPr b="1" lang="ru-RU" sz="1000" spc="-1" strike="noStrike">
                <a:solidFill>
                  <a:srgbClr val="fecf22"/>
                </a:solidFill>
                <a:latin typeface="Arial"/>
                <a:ea typeface="Arial"/>
              </a:rPr>
              <a:t>коду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289240" y="6291360"/>
            <a:ext cx="2981160" cy="29811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Q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-к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Z:\Для Кубинской\qr-code.gif"/>
          <p:cNvPicPr/>
          <p:nvPr/>
        </p:nvPicPr>
        <p:blipFill>
          <a:blip r:embed="rId2"/>
          <a:stretch/>
        </p:blipFill>
        <p:spPr>
          <a:xfrm>
            <a:off x="2289240" y="6291360"/>
            <a:ext cx="2981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09:08:27Z</dcterms:created>
  <dc:creator>Хандруева Дарья Дмитриевна</dc:creator>
  <dc:description/>
  <dc:language>en-US</dc:language>
  <cp:lastModifiedBy>Zakupki</cp:lastModifiedBy>
  <cp:lastPrinted>2019-02-08T05:07:19Z</cp:lastPrinted>
  <dcterms:modified xsi:type="dcterms:W3CDTF">2019-02-18T11:24:50Z</dcterms:modified>
  <cp:revision>16</cp:revision>
  <dc:subject/>
  <dc:title>Презентация PowerPoint</dc:title>
</cp:coreProperties>
</file>